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D582-616C-4230-8358-335B4108A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6FA4-B9EC-4963-B53B-8A09AA453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C60FB-8694-4D68-8FF2-61B377ADD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735E-4C39-4EFB-9BE0-8E05A637F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B515E-0574-4549-B77F-9D71915983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8E3E1-971F-4D52-8D25-57FE00F8E2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79018-8234-4CE5-9AB9-DFDDCE8090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F0AE3-2E1E-41D5-8BB2-6A45529A69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550EB-5661-4F6F-9D06-C8995CC9F1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2F320-F079-417D-9D70-A065FD0A85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10CBE-E803-4FF9-9122-D0044BE2DF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33B4-9E2A-4C04-9F1B-299C05E59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92D59-0926-4218-83CC-B1341F9834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067DD-288E-482B-9424-195E8272AF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A8D6F-A4E7-40EF-8187-5E3F6FA447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44888-79BD-400E-AE90-1A94A64EC5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11B9E-0CF7-41AC-8E53-952F265E4D7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2EF0-9469-4683-B455-AD82439DC1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9AAF-E7A4-423B-8FFB-977331E993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46FA-257C-45FC-BC02-62979A08CF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6562-B350-4B0A-A56F-971CD7FFAA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67BE-E1B6-4ECA-A458-8D6ECB87DF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E2C8-F99A-444C-9EE3-8E32FD35FD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7A79-FAC0-4051-9FFE-388E5C6FDBA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3F71-7CED-40BE-9373-AB1C40FB94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0C14-55D7-41CB-982D-A60DDD804A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A7C0-7892-428E-933C-3735FC807E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ADBF-2155-4990-B86F-B2FDF57D11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1E29-EF2F-416B-BE84-D4794A23A7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140-AA90-43B7-AADA-03CC04E499E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24D28-3219-4DCA-98EF-CCF6E071794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EF600-6275-4148-B06C-B839CCEF995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D22A9-40C4-4FAE-B16D-78EBA360A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141A-3DD7-4029-8A00-D319C7BDDF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74C42-E1F0-411F-8655-18A6C6871A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AE661-E320-4BD9-A3A8-813F165FD08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9A31F-1CE9-49B6-892E-71CF13CF92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8A307-A44F-464F-A4BA-C42183BD70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246D8-67F1-488B-BC84-EFFAB885B4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5BC4D-5EFA-40C0-987F-DB207B1394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DEE5C-F623-4D4D-B897-7EE169DB94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1F673-EDA9-4201-A3BB-43DDF058DC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36EAC-F555-4305-8EBC-D4B62ACA082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2E651-CF9D-410B-9387-023563F0BA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88625-6A2F-4576-BEA7-A55A67DC52F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172F5-A4F5-43B7-AE84-9708992FE5F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76FA5-48BD-41A9-970A-A937D20D159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17E45-A141-436C-BB54-97D65BA43FB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D9F4A-4443-4D0C-9709-DC31FE14347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93774-025F-4D15-9751-073319BC26A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E1932-4B39-436B-8CB8-0E1C520177D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9772C-21C5-4610-A9E6-0B99465DAAB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3070B-7D58-4984-941A-07AA3FB8460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6EF6D-1F66-4896-9203-D8A3037145B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1C1A5-1B51-4254-B15B-91F87CAF7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81BA-8970-485D-889D-EB2A532CBD8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2D946-725B-47F3-9B4D-9B6867B6825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2B14-FE1A-4753-9084-3225B0243E3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DBA3-A363-4111-B100-C2C56BA5FB2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C811-A11B-4B92-8D80-134E51828C2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9D17-A7FB-4F80-8128-67DFA8C92B2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9F75-2E31-46CD-94F6-1A87C01EF3C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E6C7-4AC1-41D8-93F0-6BD1BEBD839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B9F3-384D-4553-A98E-27CF8318F0D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31ED-6589-42B5-92A1-52AC08B0E08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8B1B-B196-4F14-BFFD-66E14EBD9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C12A-C71F-4C87-8E97-DD227ECD53A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0F06-6EFE-43B3-AE87-B1724594087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6A46-96EB-4AD1-9541-FEFCE904478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8B17-612B-4138-B6CB-943CB1AE1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C1DE-782B-4DDB-9FD4-F71BDC15F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DD42-2517-4DE9-B3DA-B19837B94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1144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024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F1137EA9-BC56-4660-94DC-0D0B6129859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1144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024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98940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D5D439A8-5644-4E5E-8BC7-7EE31784276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1144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024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6977160" y="64576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7C11AF31-867A-45F1-A7EA-32C32270329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1144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024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7004160" y="64576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CCD0A654-473C-4F93-9B75-AE33A1CB708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1144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024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7004160" y="64306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981FFFBF-A871-4438-9C8F-4C6B1287D1F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1144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024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7004160" y="64306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A8008443-244A-46DF-921E-C292FA669DA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1"/>
          <p:cNvSpPr/>
          <p:nvPr/>
        </p:nvSpPr>
        <p:spPr>
          <a:xfrm>
            <a:off x="698976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93F691AA-CA4B-4DB3-BFF5-8234DD2DCEC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MERCIAL TYPE II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ONCOMBUSTIBLE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ERCISE #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lide Number Placeholder 1"/>
          <p:cNvSpPr/>
          <p:nvPr/>
        </p:nvSpPr>
        <p:spPr>
          <a:xfrm>
            <a:off x="698976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1DEFB102-A67B-469E-A3D2-3FF35C033FB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2" descr="This is a picture of the other side of the same commercial building on fire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3"/>
          <p:cNvSpPr/>
          <p:nvPr/>
        </p:nvSpPr>
        <p:spPr>
          <a:xfrm>
            <a:off x="3220200" y="423720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4"/>
          <p:cNvSpPr/>
          <p:nvPr/>
        </p:nvSpPr>
        <p:spPr>
          <a:xfrm flipV="1">
            <a:off x="5334120" y="3124080"/>
            <a:ext cx="2286000" cy="1447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4894920" y="4697280"/>
            <a:ext cx="1189440" cy="7333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eavy fi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rage 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1"/>
          <p:cNvSpPr/>
          <p:nvPr/>
        </p:nvSpPr>
        <p:spPr>
          <a:xfrm>
            <a:off x="698976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A8B9DC35-E842-46EF-8C18-9A6354EA02F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3" descr="This is a picture of the front of a commercial building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de 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5506200" y="464832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781920" y="4343400"/>
            <a:ext cx="6714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6"/>
          <p:cNvSpPr/>
          <p:nvPr/>
        </p:nvSpPr>
        <p:spPr>
          <a:xfrm flipV="1">
            <a:off x="990720" y="3505320"/>
            <a:ext cx="30456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 flipV="1">
            <a:off x="5715000" y="373392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1"/>
          <p:cNvSpPr/>
          <p:nvPr/>
        </p:nvSpPr>
        <p:spPr>
          <a:xfrm>
            <a:off x="698976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0B31A554-076C-4C13-B254-72CB41C48D1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3" descr="This is a picture of the side of the same commercial building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de B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4820400" y="4038480"/>
            <a:ext cx="6714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162800" y="380988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6"/>
          <p:cNvSpPr/>
          <p:nvPr/>
        </p:nvSpPr>
        <p:spPr>
          <a:xfrm flipV="1">
            <a:off x="1752480" y="3429000"/>
            <a:ext cx="30492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 flipV="1">
            <a:off x="5105520" y="3504960"/>
            <a:ext cx="0" cy="5331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1"/>
          <p:cNvSpPr/>
          <p:nvPr/>
        </p:nvSpPr>
        <p:spPr>
          <a:xfrm>
            <a:off x="698976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D5C2BDD1-5C8E-4AA9-AAC3-72ADE89CF4F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3" descr="This is a picture of the back of the same commercial building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de C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4820400" y="403848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81920" y="403848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 flipV="1">
            <a:off x="5105520" y="3504960"/>
            <a:ext cx="0" cy="5331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 flipV="1">
            <a:off x="1066680" y="2971440"/>
            <a:ext cx="0" cy="1066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698976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5EDBD6A8-4866-4D96-A1D7-5467BBCCC4B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3" descr="This is a picture of the other side of the same commercial building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de 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372480" y="426708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5"/>
          <p:cNvSpPr/>
          <p:nvPr/>
        </p:nvSpPr>
        <p:spPr>
          <a:xfrm flipV="1">
            <a:off x="3809880" y="35809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98976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87DCABFF-581E-49E4-A3D0-95AF8C443A5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39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140"/>
          <p:cNvGrpSpPr/>
          <p:nvPr/>
        </p:nvGrpSpPr>
        <p:grpSpPr>
          <a:xfrm>
            <a:off x="838080" y="228600"/>
            <a:ext cx="7467480" cy="5790240"/>
            <a:chOff x="838080" y="228600"/>
            <a:chExt cx="7467480" cy="5790240"/>
          </a:xfrm>
        </p:grpSpPr>
        <p:sp>
          <p:nvSpPr>
            <p:cNvPr id="265" name="Line 2"/>
            <p:cNvSpPr/>
            <p:nvPr/>
          </p:nvSpPr>
          <p:spPr>
            <a:xfrm>
              <a:off x="2387880" y="5574960"/>
              <a:ext cx="471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3"/>
            <p:cNvSpPr/>
            <p:nvPr/>
          </p:nvSpPr>
          <p:spPr>
            <a:xfrm flipV="1">
              <a:off x="2387880" y="776520"/>
              <a:ext cx="0" cy="47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4"/>
            <p:cNvSpPr/>
            <p:nvPr/>
          </p:nvSpPr>
          <p:spPr>
            <a:xfrm flipV="1">
              <a:off x="7108200" y="776520"/>
              <a:ext cx="0" cy="47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5"/>
            <p:cNvSpPr/>
            <p:nvPr/>
          </p:nvSpPr>
          <p:spPr>
            <a:xfrm>
              <a:off x="2387880" y="776520"/>
              <a:ext cx="471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Group 6"/>
            <p:cNvGrpSpPr/>
            <p:nvPr/>
          </p:nvGrpSpPr>
          <p:grpSpPr>
            <a:xfrm>
              <a:off x="4641840" y="5505840"/>
              <a:ext cx="281880" cy="137160"/>
              <a:chOff x="4641840" y="5505840"/>
              <a:chExt cx="281880" cy="137160"/>
            </a:xfrm>
          </p:grpSpPr>
          <p:sp>
            <p:nvSpPr>
              <p:cNvPr id="270" name="Line 7"/>
              <p:cNvSpPr/>
              <p:nvPr/>
            </p:nvSpPr>
            <p:spPr>
              <a:xfrm flipV="1">
                <a:off x="4923720" y="5505840"/>
                <a:ext cx="0" cy="13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8"/>
              <p:cNvSpPr/>
              <p:nvPr/>
            </p:nvSpPr>
            <p:spPr>
              <a:xfrm flipV="1">
                <a:off x="4641840" y="5505840"/>
                <a:ext cx="0" cy="13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9"/>
              <p:cNvSpPr/>
              <p:nvPr/>
            </p:nvSpPr>
            <p:spPr>
              <a:xfrm flipH="1">
                <a:off x="4641840" y="5574240"/>
                <a:ext cx="2818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10"/>
            <p:cNvGrpSpPr/>
            <p:nvPr/>
          </p:nvGrpSpPr>
          <p:grpSpPr>
            <a:xfrm>
              <a:off x="3796560" y="5505840"/>
              <a:ext cx="281880" cy="137160"/>
              <a:chOff x="3796560" y="5505840"/>
              <a:chExt cx="281880" cy="137160"/>
            </a:xfrm>
          </p:grpSpPr>
          <p:sp>
            <p:nvSpPr>
              <p:cNvPr id="274" name="Line 11"/>
              <p:cNvSpPr/>
              <p:nvPr/>
            </p:nvSpPr>
            <p:spPr>
              <a:xfrm flipV="1">
                <a:off x="4078440" y="5505840"/>
                <a:ext cx="0" cy="13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12"/>
              <p:cNvSpPr/>
              <p:nvPr/>
            </p:nvSpPr>
            <p:spPr>
              <a:xfrm flipV="1">
                <a:off x="3796560" y="5505840"/>
                <a:ext cx="0" cy="13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13"/>
              <p:cNvSpPr/>
              <p:nvPr/>
            </p:nvSpPr>
            <p:spPr>
              <a:xfrm flipH="1">
                <a:off x="3796560" y="5574240"/>
                <a:ext cx="2818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Group 14"/>
            <p:cNvGrpSpPr/>
            <p:nvPr/>
          </p:nvGrpSpPr>
          <p:grpSpPr>
            <a:xfrm>
              <a:off x="2528280" y="5505840"/>
              <a:ext cx="281880" cy="137160"/>
              <a:chOff x="2528280" y="5505840"/>
              <a:chExt cx="281880" cy="137160"/>
            </a:xfrm>
          </p:grpSpPr>
          <p:sp>
            <p:nvSpPr>
              <p:cNvPr id="278" name="Line 15"/>
              <p:cNvSpPr/>
              <p:nvPr/>
            </p:nvSpPr>
            <p:spPr>
              <a:xfrm flipV="1">
                <a:off x="2810160" y="5505840"/>
                <a:ext cx="0" cy="13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16"/>
              <p:cNvSpPr/>
              <p:nvPr/>
            </p:nvSpPr>
            <p:spPr>
              <a:xfrm flipV="1">
                <a:off x="2528280" y="5505840"/>
                <a:ext cx="0" cy="13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17"/>
              <p:cNvSpPr/>
              <p:nvPr/>
            </p:nvSpPr>
            <p:spPr>
              <a:xfrm flipH="1">
                <a:off x="2528280" y="5574240"/>
                <a:ext cx="2818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Line 18"/>
            <p:cNvSpPr/>
            <p:nvPr/>
          </p:nvSpPr>
          <p:spPr>
            <a:xfrm flipV="1">
              <a:off x="5205960" y="4957560"/>
              <a:ext cx="0" cy="61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9"/>
            <p:cNvSpPr/>
            <p:nvPr/>
          </p:nvSpPr>
          <p:spPr>
            <a:xfrm flipV="1">
              <a:off x="6192360" y="4478040"/>
              <a:ext cx="0" cy="10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20"/>
            <p:cNvSpPr/>
            <p:nvPr/>
          </p:nvSpPr>
          <p:spPr>
            <a:xfrm>
              <a:off x="5205960" y="4957920"/>
              <a:ext cx="98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Group 21"/>
            <p:cNvGrpSpPr/>
            <p:nvPr/>
          </p:nvGrpSpPr>
          <p:grpSpPr>
            <a:xfrm>
              <a:off x="5417640" y="4752360"/>
              <a:ext cx="547560" cy="205200"/>
              <a:chOff x="5417640" y="4752360"/>
              <a:chExt cx="547560" cy="205200"/>
            </a:xfrm>
          </p:grpSpPr>
          <p:grpSp>
            <p:nvGrpSpPr>
              <p:cNvPr id="285" name="Group 22"/>
              <p:cNvGrpSpPr/>
              <p:nvPr/>
            </p:nvGrpSpPr>
            <p:grpSpPr>
              <a:xfrm>
                <a:off x="5417640" y="4752360"/>
                <a:ext cx="266760" cy="205200"/>
                <a:chOff x="5417640" y="4752360"/>
                <a:chExt cx="266760" cy="205200"/>
              </a:xfrm>
            </p:grpSpPr>
            <p:sp>
              <p:nvSpPr>
                <p:cNvPr id="286" name="door"/>
                <p:cNvSpPr/>
                <p:nvPr/>
              </p:nvSpPr>
              <p:spPr>
                <a:xfrm flipV="1" rot="10800000">
                  <a:off x="5425920" y="4752360"/>
                  <a:ext cx="258480" cy="205200"/>
                </a:xfrm>
                <a:custGeom>
                  <a:avLst/>
                  <a:gdLst>
                    <a:gd name="textAreaLeft" fmla="*/ 30600 w 258480"/>
                    <a:gd name="textAreaRight" fmla="*/ 161280 w 258480"/>
                    <a:gd name="textAreaTop" fmla="*/ 105840 h 205200"/>
                    <a:gd name="textAreaBottom" fmla="*/ 192240 h 20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Line 24"/>
                <p:cNvSpPr/>
                <p:nvPr/>
              </p:nvSpPr>
              <p:spPr>
                <a:xfrm flipH="1">
                  <a:off x="5417640" y="4957560"/>
                  <a:ext cx="2667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Group 25"/>
              <p:cNvGrpSpPr/>
              <p:nvPr/>
            </p:nvGrpSpPr>
            <p:grpSpPr>
              <a:xfrm>
                <a:off x="5698080" y="4752360"/>
                <a:ext cx="267120" cy="205200"/>
                <a:chOff x="5698080" y="4752360"/>
                <a:chExt cx="267120" cy="205200"/>
              </a:xfrm>
            </p:grpSpPr>
            <p:sp>
              <p:nvSpPr>
                <p:cNvPr id="289" name="door"/>
                <p:cNvSpPr/>
                <p:nvPr/>
              </p:nvSpPr>
              <p:spPr>
                <a:xfrm>
                  <a:off x="5698080" y="4752360"/>
                  <a:ext cx="258120" cy="205200"/>
                </a:xfrm>
                <a:custGeom>
                  <a:avLst/>
                  <a:gdLst>
                    <a:gd name="textAreaLeft" fmla="*/ 30240 w 258120"/>
                    <a:gd name="textAreaRight" fmla="*/ 160920 w 258120"/>
                    <a:gd name="textAreaTop" fmla="*/ 105840 h 205200"/>
                    <a:gd name="textAreaBottom" fmla="*/ 192240 h 20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Line 27"/>
                <p:cNvSpPr/>
                <p:nvPr/>
              </p:nvSpPr>
              <p:spPr>
                <a:xfrm>
                  <a:off x="5698800" y="4957560"/>
                  <a:ext cx="2664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1" name="Line 28"/>
            <p:cNvSpPr/>
            <p:nvPr/>
          </p:nvSpPr>
          <p:spPr>
            <a:xfrm>
              <a:off x="6192360" y="4478040"/>
              <a:ext cx="91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Group 29"/>
            <p:cNvGrpSpPr/>
            <p:nvPr/>
          </p:nvGrpSpPr>
          <p:grpSpPr>
            <a:xfrm>
              <a:off x="6192360" y="4478040"/>
              <a:ext cx="281520" cy="273600"/>
              <a:chOff x="6192360" y="4478040"/>
              <a:chExt cx="281520" cy="273600"/>
            </a:xfrm>
          </p:grpSpPr>
          <p:sp>
            <p:nvSpPr>
              <p:cNvPr id="293" name="door"/>
              <p:cNvSpPr/>
              <p:nvPr/>
            </p:nvSpPr>
            <p:spPr>
              <a:xfrm flipH="1" flipV="1">
                <a:off x="6201000" y="4478040"/>
                <a:ext cx="272880" cy="273600"/>
              </a:xfrm>
              <a:custGeom>
                <a:avLst/>
                <a:gdLst>
                  <a:gd name="textAreaLeft" fmla="*/ 32040 w 272880"/>
                  <a:gd name="textAreaRight" fmla="*/ 170280 w 272880"/>
                  <a:gd name="textAreaTop" fmla="*/ 141480 h 273600"/>
                  <a:gd name="textAreaBottom" fmla="*/ 256320 h 27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Line 31"/>
              <p:cNvSpPr/>
              <p:nvPr/>
            </p:nvSpPr>
            <p:spPr>
              <a:xfrm flipH="1">
                <a:off x="6192360" y="4478040"/>
                <a:ext cx="281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Line 32"/>
            <p:cNvSpPr/>
            <p:nvPr/>
          </p:nvSpPr>
          <p:spPr>
            <a:xfrm>
              <a:off x="6192360" y="4066560"/>
              <a:ext cx="91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33"/>
            <p:cNvSpPr/>
            <p:nvPr/>
          </p:nvSpPr>
          <p:spPr>
            <a:xfrm flipV="1">
              <a:off x="6192360" y="3106800"/>
              <a:ext cx="0" cy="9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34"/>
            <p:cNvSpPr/>
            <p:nvPr/>
          </p:nvSpPr>
          <p:spPr>
            <a:xfrm>
              <a:off x="6192360" y="2970360"/>
              <a:ext cx="91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35"/>
            <p:cNvSpPr/>
            <p:nvPr/>
          </p:nvSpPr>
          <p:spPr>
            <a:xfrm flipV="1">
              <a:off x="6192360" y="1736640"/>
              <a:ext cx="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36"/>
            <p:cNvSpPr/>
            <p:nvPr/>
          </p:nvSpPr>
          <p:spPr>
            <a:xfrm>
              <a:off x="6192360" y="1736640"/>
              <a:ext cx="91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37"/>
            <p:cNvSpPr/>
            <p:nvPr/>
          </p:nvSpPr>
          <p:spPr>
            <a:xfrm flipV="1">
              <a:off x="6192360" y="776160"/>
              <a:ext cx="0" cy="47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Group 38"/>
            <p:cNvGrpSpPr/>
            <p:nvPr/>
          </p:nvGrpSpPr>
          <p:grpSpPr>
            <a:xfrm>
              <a:off x="6192360" y="2970720"/>
              <a:ext cx="281520" cy="273960"/>
              <a:chOff x="6192360" y="2970720"/>
              <a:chExt cx="281520" cy="273960"/>
            </a:xfrm>
          </p:grpSpPr>
          <p:sp>
            <p:nvSpPr>
              <p:cNvPr id="302" name="door"/>
              <p:cNvSpPr/>
              <p:nvPr/>
            </p:nvSpPr>
            <p:spPr>
              <a:xfrm flipV="1" rot="16200000">
                <a:off x="6200640" y="2971080"/>
                <a:ext cx="264600" cy="281520"/>
              </a:xfrm>
              <a:custGeom>
                <a:avLst/>
                <a:gdLst>
                  <a:gd name="textAreaLeft" fmla="*/ 31320 w 264600"/>
                  <a:gd name="textAreaRight" fmla="*/ 165240 w 264600"/>
                  <a:gd name="textAreaTop" fmla="*/ 145440 h 281520"/>
                  <a:gd name="textAreaBottom" fmla="*/ 263520 h 28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Line 40"/>
              <p:cNvSpPr/>
              <p:nvPr/>
            </p:nvSpPr>
            <p:spPr>
              <a:xfrm flipV="1">
                <a:off x="6192360" y="2970720"/>
                <a:ext cx="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41"/>
            <p:cNvGrpSpPr/>
            <p:nvPr/>
          </p:nvGrpSpPr>
          <p:grpSpPr>
            <a:xfrm>
              <a:off x="6192360" y="1737000"/>
              <a:ext cx="281520" cy="273960"/>
              <a:chOff x="6192360" y="1737000"/>
              <a:chExt cx="281520" cy="273960"/>
            </a:xfrm>
          </p:grpSpPr>
          <p:sp>
            <p:nvSpPr>
              <p:cNvPr id="305" name="door"/>
              <p:cNvSpPr/>
              <p:nvPr/>
            </p:nvSpPr>
            <p:spPr>
              <a:xfrm flipV="1" rot="16200000">
                <a:off x="6200640" y="1737360"/>
                <a:ext cx="264600" cy="281520"/>
              </a:xfrm>
              <a:custGeom>
                <a:avLst/>
                <a:gdLst>
                  <a:gd name="textAreaLeft" fmla="*/ 31320 w 264600"/>
                  <a:gd name="textAreaRight" fmla="*/ 165240 w 264600"/>
                  <a:gd name="textAreaTop" fmla="*/ 145440 h 281520"/>
                  <a:gd name="textAreaBottom" fmla="*/ 263520 h 28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Line 43"/>
              <p:cNvSpPr/>
              <p:nvPr/>
            </p:nvSpPr>
            <p:spPr>
              <a:xfrm flipV="1">
                <a:off x="6192360" y="1737000"/>
                <a:ext cx="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44"/>
            <p:cNvGrpSpPr/>
            <p:nvPr/>
          </p:nvGrpSpPr>
          <p:grpSpPr>
            <a:xfrm>
              <a:off x="6192360" y="776520"/>
              <a:ext cx="281520" cy="273600"/>
              <a:chOff x="6192360" y="776520"/>
              <a:chExt cx="281520" cy="273600"/>
            </a:xfrm>
          </p:grpSpPr>
          <p:sp>
            <p:nvSpPr>
              <p:cNvPr id="308" name="door"/>
              <p:cNvSpPr/>
              <p:nvPr/>
            </p:nvSpPr>
            <p:spPr>
              <a:xfrm flipV="1" rot="16200000">
                <a:off x="6200640" y="776880"/>
                <a:ext cx="264960" cy="281520"/>
              </a:xfrm>
              <a:custGeom>
                <a:avLst/>
                <a:gdLst>
                  <a:gd name="textAreaLeft" fmla="*/ 31320 w 264960"/>
                  <a:gd name="textAreaRight" fmla="*/ 165240 w 264960"/>
                  <a:gd name="textAreaTop" fmla="*/ 145440 h 281520"/>
                  <a:gd name="textAreaBottom" fmla="*/ 263520 h 28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46"/>
              <p:cNvSpPr/>
              <p:nvPr/>
            </p:nvSpPr>
            <p:spPr>
              <a:xfrm flipV="1">
                <a:off x="6192360" y="776520"/>
                <a:ext cx="0" cy="27360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Group 47"/>
            <p:cNvGrpSpPr/>
            <p:nvPr/>
          </p:nvGrpSpPr>
          <p:grpSpPr>
            <a:xfrm>
              <a:off x="2317320" y="5026680"/>
              <a:ext cx="141120" cy="273600"/>
              <a:chOff x="2317320" y="5026680"/>
              <a:chExt cx="141120" cy="273600"/>
            </a:xfrm>
          </p:grpSpPr>
          <p:sp>
            <p:nvSpPr>
              <p:cNvPr id="311" name="Line 48"/>
              <p:cNvSpPr/>
              <p:nvPr/>
            </p:nvSpPr>
            <p:spPr>
              <a:xfrm>
                <a:off x="2317320" y="5300280"/>
                <a:ext cx="14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49"/>
              <p:cNvSpPr/>
              <p:nvPr/>
            </p:nvSpPr>
            <p:spPr>
              <a:xfrm>
                <a:off x="2317320" y="5026680"/>
                <a:ext cx="14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Line 50"/>
              <p:cNvSpPr/>
              <p:nvPr/>
            </p:nvSpPr>
            <p:spPr>
              <a:xfrm flipV="1">
                <a:off x="2387880" y="5026680"/>
                <a:ext cx="0" cy="273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Group 51"/>
            <p:cNvGrpSpPr/>
            <p:nvPr/>
          </p:nvGrpSpPr>
          <p:grpSpPr>
            <a:xfrm>
              <a:off x="2387880" y="4272480"/>
              <a:ext cx="281520" cy="273600"/>
              <a:chOff x="2387880" y="4272480"/>
              <a:chExt cx="281520" cy="273600"/>
            </a:xfrm>
          </p:grpSpPr>
          <p:sp>
            <p:nvSpPr>
              <p:cNvPr id="315" name="door"/>
              <p:cNvSpPr/>
              <p:nvPr/>
            </p:nvSpPr>
            <p:spPr>
              <a:xfrm flipV="1" rot="16200000">
                <a:off x="2396160" y="4272840"/>
                <a:ext cx="264960" cy="281520"/>
              </a:xfrm>
              <a:custGeom>
                <a:avLst/>
                <a:gdLst>
                  <a:gd name="textAreaLeft" fmla="*/ 31320 w 264960"/>
                  <a:gd name="textAreaRight" fmla="*/ 165240 w 264960"/>
                  <a:gd name="textAreaTop" fmla="*/ 145440 h 281520"/>
                  <a:gd name="textAreaBottom" fmla="*/ 263520 h 28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53"/>
              <p:cNvSpPr/>
              <p:nvPr/>
            </p:nvSpPr>
            <p:spPr>
              <a:xfrm flipV="1">
                <a:off x="2387880" y="4272480"/>
                <a:ext cx="0" cy="27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Group 54"/>
            <p:cNvGrpSpPr/>
            <p:nvPr/>
          </p:nvGrpSpPr>
          <p:grpSpPr>
            <a:xfrm>
              <a:off x="2317320" y="3792600"/>
              <a:ext cx="141120" cy="273600"/>
              <a:chOff x="2317320" y="3792600"/>
              <a:chExt cx="141120" cy="273600"/>
            </a:xfrm>
          </p:grpSpPr>
          <p:sp>
            <p:nvSpPr>
              <p:cNvPr id="318" name="Line 55"/>
              <p:cNvSpPr/>
              <p:nvPr/>
            </p:nvSpPr>
            <p:spPr>
              <a:xfrm>
                <a:off x="2317320" y="4066200"/>
                <a:ext cx="14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Line 56"/>
              <p:cNvSpPr/>
              <p:nvPr/>
            </p:nvSpPr>
            <p:spPr>
              <a:xfrm>
                <a:off x="2317320" y="3792600"/>
                <a:ext cx="14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Line 57"/>
              <p:cNvSpPr/>
              <p:nvPr/>
            </p:nvSpPr>
            <p:spPr>
              <a:xfrm flipV="1">
                <a:off x="2387880" y="3792600"/>
                <a:ext cx="0" cy="273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Group 58"/>
            <p:cNvGrpSpPr/>
            <p:nvPr/>
          </p:nvGrpSpPr>
          <p:grpSpPr>
            <a:xfrm>
              <a:off x="2317320" y="3106800"/>
              <a:ext cx="141120" cy="273960"/>
              <a:chOff x="2317320" y="3106800"/>
              <a:chExt cx="141120" cy="273960"/>
            </a:xfrm>
          </p:grpSpPr>
          <p:sp>
            <p:nvSpPr>
              <p:cNvPr id="322" name="Line 59"/>
              <p:cNvSpPr/>
              <p:nvPr/>
            </p:nvSpPr>
            <p:spPr>
              <a:xfrm>
                <a:off x="2317320" y="3380760"/>
                <a:ext cx="14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60"/>
              <p:cNvSpPr/>
              <p:nvPr/>
            </p:nvSpPr>
            <p:spPr>
              <a:xfrm>
                <a:off x="2317320" y="3106800"/>
                <a:ext cx="14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61"/>
              <p:cNvSpPr/>
              <p:nvPr/>
            </p:nvSpPr>
            <p:spPr>
              <a:xfrm flipV="1">
                <a:off x="2387880" y="3106800"/>
                <a:ext cx="0" cy="2739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Group 62"/>
            <p:cNvGrpSpPr/>
            <p:nvPr/>
          </p:nvGrpSpPr>
          <p:grpSpPr>
            <a:xfrm>
              <a:off x="2387880" y="2353680"/>
              <a:ext cx="281520" cy="273960"/>
              <a:chOff x="2387880" y="2353680"/>
              <a:chExt cx="281520" cy="273960"/>
            </a:xfrm>
          </p:grpSpPr>
          <p:sp>
            <p:nvSpPr>
              <p:cNvPr id="326" name="door"/>
              <p:cNvSpPr/>
              <p:nvPr/>
            </p:nvSpPr>
            <p:spPr>
              <a:xfrm flipV="1" rot="16200000">
                <a:off x="2396160" y="2354040"/>
                <a:ext cx="264600" cy="281520"/>
              </a:xfrm>
              <a:custGeom>
                <a:avLst/>
                <a:gdLst>
                  <a:gd name="textAreaLeft" fmla="*/ 31320 w 264600"/>
                  <a:gd name="textAreaRight" fmla="*/ 165240 w 264600"/>
                  <a:gd name="textAreaTop" fmla="*/ 145440 h 281520"/>
                  <a:gd name="textAreaBottom" fmla="*/ 263520 h 28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Line 64"/>
              <p:cNvSpPr/>
              <p:nvPr/>
            </p:nvSpPr>
            <p:spPr>
              <a:xfrm flipV="1">
                <a:off x="2387880" y="2353680"/>
                <a:ext cx="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Group 65"/>
            <p:cNvGrpSpPr/>
            <p:nvPr/>
          </p:nvGrpSpPr>
          <p:grpSpPr>
            <a:xfrm>
              <a:off x="2387880" y="1325520"/>
              <a:ext cx="281520" cy="273960"/>
              <a:chOff x="2387880" y="1325520"/>
              <a:chExt cx="281520" cy="273960"/>
            </a:xfrm>
          </p:grpSpPr>
          <p:sp>
            <p:nvSpPr>
              <p:cNvPr id="329" name="door"/>
              <p:cNvSpPr/>
              <p:nvPr/>
            </p:nvSpPr>
            <p:spPr>
              <a:xfrm flipV="1" rot="16200000">
                <a:off x="2396160" y="1325880"/>
                <a:ext cx="264600" cy="281520"/>
              </a:xfrm>
              <a:custGeom>
                <a:avLst/>
                <a:gdLst>
                  <a:gd name="textAreaLeft" fmla="*/ 31320 w 264600"/>
                  <a:gd name="textAreaRight" fmla="*/ 165240 w 264600"/>
                  <a:gd name="textAreaTop" fmla="*/ 145440 h 281520"/>
                  <a:gd name="textAreaBottom" fmla="*/ 263520 h 28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67"/>
              <p:cNvSpPr/>
              <p:nvPr/>
            </p:nvSpPr>
            <p:spPr>
              <a:xfrm flipV="1">
                <a:off x="2387880" y="1325520"/>
                <a:ext cx="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Group 68"/>
            <p:cNvGrpSpPr/>
            <p:nvPr/>
          </p:nvGrpSpPr>
          <p:grpSpPr>
            <a:xfrm>
              <a:off x="2317320" y="914040"/>
              <a:ext cx="141120" cy="273600"/>
              <a:chOff x="2317320" y="914040"/>
              <a:chExt cx="141120" cy="273600"/>
            </a:xfrm>
          </p:grpSpPr>
          <p:sp>
            <p:nvSpPr>
              <p:cNvPr id="332" name="Line 69"/>
              <p:cNvSpPr/>
              <p:nvPr/>
            </p:nvSpPr>
            <p:spPr>
              <a:xfrm>
                <a:off x="2317320" y="1187640"/>
                <a:ext cx="14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Line 70"/>
              <p:cNvSpPr/>
              <p:nvPr/>
            </p:nvSpPr>
            <p:spPr>
              <a:xfrm>
                <a:off x="2317320" y="914040"/>
                <a:ext cx="14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Line 71"/>
              <p:cNvSpPr/>
              <p:nvPr/>
            </p:nvSpPr>
            <p:spPr>
              <a:xfrm flipV="1">
                <a:off x="2387880" y="914040"/>
                <a:ext cx="0" cy="273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72"/>
            <p:cNvGrpSpPr/>
            <p:nvPr/>
          </p:nvGrpSpPr>
          <p:grpSpPr>
            <a:xfrm>
              <a:off x="4148640" y="776520"/>
              <a:ext cx="281880" cy="273600"/>
              <a:chOff x="4148640" y="776520"/>
              <a:chExt cx="281880" cy="273600"/>
            </a:xfrm>
          </p:grpSpPr>
          <p:sp>
            <p:nvSpPr>
              <p:cNvPr id="336" name="door"/>
              <p:cNvSpPr/>
              <p:nvPr/>
            </p:nvSpPr>
            <p:spPr>
              <a:xfrm flipV="1">
                <a:off x="4148640" y="776520"/>
                <a:ext cx="272520" cy="273600"/>
              </a:xfrm>
              <a:custGeom>
                <a:avLst/>
                <a:gdLst>
                  <a:gd name="textAreaLeft" fmla="*/ 32040 w 272520"/>
                  <a:gd name="textAreaRight" fmla="*/ 169920 w 272520"/>
                  <a:gd name="textAreaTop" fmla="*/ 141480 h 273600"/>
                  <a:gd name="textAreaBottom" fmla="*/ 256320 h 27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Line 74"/>
              <p:cNvSpPr/>
              <p:nvPr/>
            </p:nvSpPr>
            <p:spPr>
              <a:xfrm>
                <a:off x="4149360" y="776520"/>
                <a:ext cx="281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Group 75"/>
            <p:cNvGrpSpPr/>
            <p:nvPr/>
          </p:nvGrpSpPr>
          <p:grpSpPr>
            <a:xfrm>
              <a:off x="3092400" y="708480"/>
              <a:ext cx="281520" cy="136800"/>
              <a:chOff x="3092400" y="708480"/>
              <a:chExt cx="281520" cy="136800"/>
            </a:xfrm>
          </p:grpSpPr>
          <p:sp>
            <p:nvSpPr>
              <p:cNvPr id="339" name="Line 76"/>
              <p:cNvSpPr/>
              <p:nvPr/>
            </p:nvSpPr>
            <p:spPr>
              <a:xfrm flipV="1">
                <a:off x="3373920" y="708480"/>
                <a:ext cx="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Line 77"/>
              <p:cNvSpPr/>
              <p:nvPr/>
            </p:nvSpPr>
            <p:spPr>
              <a:xfrm flipV="1">
                <a:off x="3092400" y="708480"/>
                <a:ext cx="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78"/>
              <p:cNvSpPr/>
              <p:nvPr/>
            </p:nvSpPr>
            <p:spPr>
              <a:xfrm flipH="1">
                <a:off x="3092400" y="776880"/>
                <a:ext cx="2815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Group 79"/>
            <p:cNvGrpSpPr/>
            <p:nvPr/>
          </p:nvGrpSpPr>
          <p:grpSpPr>
            <a:xfrm>
              <a:off x="5487120" y="708480"/>
              <a:ext cx="281880" cy="136800"/>
              <a:chOff x="5487120" y="708480"/>
              <a:chExt cx="281880" cy="136800"/>
            </a:xfrm>
          </p:grpSpPr>
          <p:sp>
            <p:nvSpPr>
              <p:cNvPr id="343" name="Line 80"/>
              <p:cNvSpPr/>
              <p:nvPr/>
            </p:nvSpPr>
            <p:spPr>
              <a:xfrm flipV="1">
                <a:off x="5769000" y="708480"/>
                <a:ext cx="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Line 81"/>
              <p:cNvSpPr/>
              <p:nvPr/>
            </p:nvSpPr>
            <p:spPr>
              <a:xfrm flipV="1">
                <a:off x="5487120" y="708480"/>
                <a:ext cx="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Line 82"/>
              <p:cNvSpPr/>
              <p:nvPr/>
            </p:nvSpPr>
            <p:spPr>
              <a:xfrm flipH="1">
                <a:off x="5487120" y="776880"/>
                <a:ext cx="2818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83"/>
            <p:cNvGrpSpPr/>
            <p:nvPr/>
          </p:nvGrpSpPr>
          <p:grpSpPr>
            <a:xfrm>
              <a:off x="7037640" y="844920"/>
              <a:ext cx="140760" cy="273960"/>
              <a:chOff x="7037640" y="844920"/>
              <a:chExt cx="140760" cy="273960"/>
            </a:xfrm>
          </p:grpSpPr>
          <p:sp>
            <p:nvSpPr>
              <p:cNvPr id="347" name="Line 84"/>
              <p:cNvSpPr/>
              <p:nvPr/>
            </p:nvSpPr>
            <p:spPr>
              <a:xfrm>
                <a:off x="7037640" y="1118880"/>
                <a:ext cx="14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Line 85"/>
              <p:cNvSpPr/>
              <p:nvPr/>
            </p:nvSpPr>
            <p:spPr>
              <a:xfrm>
                <a:off x="7037640" y="844920"/>
                <a:ext cx="14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Line 86"/>
              <p:cNvSpPr/>
              <p:nvPr/>
            </p:nvSpPr>
            <p:spPr>
              <a:xfrm flipV="1">
                <a:off x="7108200" y="844920"/>
                <a:ext cx="0" cy="2739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Line 87"/>
            <p:cNvSpPr/>
            <p:nvPr/>
          </p:nvSpPr>
          <p:spPr>
            <a:xfrm>
              <a:off x="6192360" y="1256400"/>
              <a:ext cx="91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Group 88"/>
            <p:cNvGrpSpPr/>
            <p:nvPr/>
          </p:nvGrpSpPr>
          <p:grpSpPr>
            <a:xfrm>
              <a:off x="6826320" y="1393560"/>
              <a:ext cx="281520" cy="273600"/>
              <a:chOff x="6826320" y="1393560"/>
              <a:chExt cx="281520" cy="273600"/>
            </a:xfrm>
          </p:grpSpPr>
          <p:sp>
            <p:nvSpPr>
              <p:cNvPr id="352" name="door"/>
              <p:cNvSpPr/>
              <p:nvPr/>
            </p:nvSpPr>
            <p:spPr>
              <a:xfrm flipH="1" flipV="1" rot="5400000">
                <a:off x="6834600" y="1393920"/>
                <a:ext cx="264960" cy="281520"/>
              </a:xfrm>
              <a:custGeom>
                <a:avLst/>
                <a:gdLst>
                  <a:gd name="textAreaLeft" fmla="*/ 31320 w 264960"/>
                  <a:gd name="textAreaRight" fmla="*/ 165240 w 264960"/>
                  <a:gd name="textAreaTop" fmla="*/ 145440 h 281520"/>
                  <a:gd name="textAreaBottom" fmla="*/ 263520 h 28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Line 90"/>
              <p:cNvSpPr/>
              <p:nvPr/>
            </p:nvSpPr>
            <p:spPr>
              <a:xfrm flipV="1">
                <a:off x="7107840" y="1393560"/>
                <a:ext cx="0" cy="27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Group 91"/>
            <p:cNvGrpSpPr/>
            <p:nvPr/>
          </p:nvGrpSpPr>
          <p:grpSpPr>
            <a:xfrm>
              <a:off x="6826320" y="4135320"/>
              <a:ext cx="281520" cy="273600"/>
              <a:chOff x="6826320" y="4135320"/>
              <a:chExt cx="281520" cy="273600"/>
            </a:xfrm>
          </p:grpSpPr>
          <p:sp>
            <p:nvSpPr>
              <p:cNvPr id="355" name="door"/>
              <p:cNvSpPr/>
              <p:nvPr/>
            </p:nvSpPr>
            <p:spPr>
              <a:xfrm flipH="1" flipV="1" rot="5400000">
                <a:off x="6834600" y="4135680"/>
                <a:ext cx="264960" cy="281520"/>
              </a:xfrm>
              <a:custGeom>
                <a:avLst/>
                <a:gdLst>
                  <a:gd name="textAreaLeft" fmla="*/ 31320 w 264960"/>
                  <a:gd name="textAreaRight" fmla="*/ 165240 w 264960"/>
                  <a:gd name="textAreaTop" fmla="*/ 145440 h 281520"/>
                  <a:gd name="textAreaBottom" fmla="*/ 263520 h 28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Line 93"/>
              <p:cNvSpPr/>
              <p:nvPr/>
            </p:nvSpPr>
            <p:spPr>
              <a:xfrm flipV="1">
                <a:off x="7107840" y="4135320"/>
                <a:ext cx="0" cy="27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Group 94"/>
            <p:cNvGrpSpPr/>
            <p:nvPr/>
          </p:nvGrpSpPr>
          <p:grpSpPr>
            <a:xfrm>
              <a:off x="6826320" y="2627280"/>
              <a:ext cx="281520" cy="273600"/>
              <a:chOff x="6826320" y="2627280"/>
              <a:chExt cx="281520" cy="273600"/>
            </a:xfrm>
          </p:grpSpPr>
          <p:sp>
            <p:nvSpPr>
              <p:cNvPr id="358" name="door"/>
              <p:cNvSpPr/>
              <p:nvPr/>
            </p:nvSpPr>
            <p:spPr>
              <a:xfrm flipH="1" flipV="1" rot="5400000">
                <a:off x="6834600" y="2627640"/>
                <a:ext cx="264960" cy="281520"/>
              </a:xfrm>
              <a:custGeom>
                <a:avLst/>
                <a:gdLst>
                  <a:gd name="textAreaLeft" fmla="*/ 31320 w 264960"/>
                  <a:gd name="textAreaRight" fmla="*/ 165240 w 264960"/>
                  <a:gd name="textAreaTop" fmla="*/ 145440 h 281520"/>
                  <a:gd name="textAreaBottom" fmla="*/ 263520 h 28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Line 96"/>
              <p:cNvSpPr/>
              <p:nvPr/>
            </p:nvSpPr>
            <p:spPr>
              <a:xfrm flipV="1">
                <a:off x="7107840" y="2627280"/>
                <a:ext cx="0" cy="27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Line 97"/>
            <p:cNvSpPr/>
            <p:nvPr/>
          </p:nvSpPr>
          <p:spPr>
            <a:xfrm>
              <a:off x="6192360" y="2558880"/>
              <a:ext cx="91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" name="Group 98"/>
            <p:cNvGrpSpPr/>
            <p:nvPr/>
          </p:nvGrpSpPr>
          <p:grpSpPr>
            <a:xfrm>
              <a:off x="7037640" y="3381480"/>
              <a:ext cx="140760" cy="273600"/>
              <a:chOff x="7037640" y="3381480"/>
              <a:chExt cx="140760" cy="273600"/>
            </a:xfrm>
          </p:grpSpPr>
          <p:sp>
            <p:nvSpPr>
              <p:cNvPr id="362" name="Line 99"/>
              <p:cNvSpPr/>
              <p:nvPr/>
            </p:nvSpPr>
            <p:spPr>
              <a:xfrm>
                <a:off x="7037640" y="3655080"/>
                <a:ext cx="14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Line 100"/>
              <p:cNvSpPr/>
              <p:nvPr/>
            </p:nvSpPr>
            <p:spPr>
              <a:xfrm>
                <a:off x="7037640" y="3381480"/>
                <a:ext cx="14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101"/>
              <p:cNvSpPr/>
              <p:nvPr/>
            </p:nvSpPr>
            <p:spPr>
              <a:xfrm flipV="1">
                <a:off x="7108200" y="3381480"/>
                <a:ext cx="0" cy="273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102"/>
            <p:cNvGrpSpPr/>
            <p:nvPr/>
          </p:nvGrpSpPr>
          <p:grpSpPr>
            <a:xfrm>
              <a:off x="7037640" y="4683240"/>
              <a:ext cx="140760" cy="273960"/>
              <a:chOff x="7037640" y="4683240"/>
              <a:chExt cx="140760" cy="273960"/>
            </a:xfrm>
          </p:grpSpPr>
          <p:sp>
            <p:nvSpPr>
              <p:cNvPr id="366" name="Line 103"/>
              <p:cNvSpPr/>
              <p:nvPr/>
            </p:nvSpPr>
            <p:spPr>
              <a:xfrm>
                <a:off x="7037640" y="4957200"/>
                <a:ext cx="14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104"/>
              <p:cNvSpPr/>
              <p:nvPr/>
            </p:nvSpPr>
            <p:spPr>
              <a:xfrm>
                <a:off x="7037640" y="4683240"/>
                <a:ext cx="14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105"/>
              <p:cNvSpPr/>
              <p:nvPr/>
            </p:nvSpPr>
            <p:spPr>
              <a:xfrm flipV="1">
                <a:off x="7108200" y="4683240"/>
                <a:ext cx="0" cy="2739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Group 106"/>
            <p:cNvGrpSpPr/>
            <p:nvPr/>
          </p:nvGrpSpPr>
          <p:grpSpPr>
            <a:xfrm>
              <a:off x="4501440" y="776880"/>
              <a:ext cx="845280" cy="521640"/>
              <a:chOff x="4501440" y="776880"/>
              <a:chExt cx="845280" cy="521640"/>
            </a:xfrm>
          </p:grpSpPr>
          <p:sp>
            <p:nvSpPr>
              <p:cNvPr id="370" name="Rectangle 107"/>
              <p:cNvSpPr/>
              <p:nvPr/>
            </p:nvSpPr>
            <p:spPr>
              <a:xfrm rot="16200000">
                <a:off x="4906800" y="858600"/>
                <a:ext cx="456840" cy="42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Rectangle 108"/>
              <p:cNvSpPr/>
              <p:nvPr/>
            </p:nvSpPr>
            <p:spPr>
              <a:xfrm rot="16200000">
                <a:off x="4484160" y="858600"/>
                <a:ext cx="456840" cy="42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2" name="Group 109"/>
              <p:cNvGrpSpPr/>
              <p:nvPr/>
            </p:nvGrpSpPr>
            <p:grpSpPr>
              <a:xfrm>
                <a:off x="5177160" y="1149840"/>
                <a:ext cx="168840" cy="146880"/>
                <a:chOff x="5177160" y="1149840"/>
                <a:chExt cx="168840" cy="146880"/>
              </a:xfrm>
            </p:grpSpPr>
            <p:sp>
              <p:nvSpPr>
                <p:cNvPr id="373" name="door"/>
                <p:cNvSpPr/>
                <p:nvPr/>
              </p:nvSpPr>
              <p:spPr>
                <a:xfrm flipH="1" flipV="1" rot="10800000">
                  <a:off x="5176800" y="1149840"/>
                  <a:ext cx="163080" cy="146880"/>
                </a:xfrm>
                <a:custGeom>
                  <a:avLst/>
                  <a:gdLst>
                    <a:gd name="textAreaLeft" fmla="*/ 18720 w 163080"/>
                    <a:gd name="textAreaRight" fmla="*/ 101520 w 163080"/>
                    <a:gd name="textAreaTop" fmla="*/ 76320 h 146880"/>
                    <a:gd name="textAreaBottom" fmla="*/ 137880 h 146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Line 111"/>
                <p:cNvSpPr/>
                <p:nvPr/>
              </p:nvSpPr>
              <p:spPr>
                <a:xfrm>
                  <a:off x="5177880" y="1296720"/>
                  <a:ext cx="16812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112"/>
              <p:cNvGrpSpPr/>
              <p:nvPr/>
            </p:nvGrpSpPr>
            <p:grpSpPr>
              <a:xfrm>
                <a:off x="4501800" y="1149840"/>
                <a:ext cx="168840" cy="146880"/>
                <a:chOff x="4501800" y="1149840"/>
                <a:chExt cx="168840" cy="146880"/>
              </a:xfrm>
            </p:grpSpPr>
            <p:sp>
              <p:nvSpPr>
                <p:cNvPr id="376" name="door"/>
                <p:cNvSpPr/>
                <p:nvPr/>
              </p:nvSpPr>
              <p:spPr>
                <a:xfrm flipH="1">
                  <a:off x="4507200" y="1149840"/>
                  <a:ext cx="163080" cy="146880"/>
                </a:xfrm>
                <a:custGeom>
                  <a:avLst/>
                  <a:gdLst>
                    <a:gd name="textAreaLeft" fmla="*/ 18720 w 163080"/>
                    <a:gd name="textAreaRight" fmla="*/ 101520 w 163080"/>
                    <a:gd name="textAreaTop" fmla="*/ 75960 h 146880"/>
                    <a:gd name="textAreaBottom" fmla="*/ 137520 h 146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Line 114"/>
                <p:cNvSpPr/>
                <p:nvPr/>
              </p:nvSpPr>
              <p:spPr>
                <a:xfrm flipH="1">
                  <a:off x="4501800" y="1296720"/>
                  <a:ext cx="16812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Text Box 115"/>
              <p:cNvSpPr/>
              <p:nvPr/>
            </p:nvSpPr>
            <p:spPr>
              <a:xfrm flipV="1" rot="10800000">
                <a:off x="4510080" y="776520"/>
                <a:ext cx="422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LA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Text Box 116"/>
              <p:cNvSpPr/>
              <p:nvPr/>
            </p:nvSpPr>
            <p:spPr>
              <a:xfrm flipV="1" rot="10800000">
                <a:off x="4896000" y="808200"/>
                <a:ext cx="422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LA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Text Box 117"/>
            <p:cNvSpPr/>
            <p:nvPr/>
          </p:nvSpPr>
          <p:spPr>
            <a:xfrm>
              <a:off x="3585600" y="2832840"/>
              <a:ext cx="1197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assroom and Play Ar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Text Box 118"/>
            <p:cNvSpPr/>
            <p:nvPr/>
          </p:nvSpPr>
          <p:spPr>
            <a:xfrm>
              <a:off x="5276160" y="297000"/>
              <a:ext cx="1197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enced Play Ar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Text Box 119"/>
            <p:cNvSpPr/>
            <p:nvPr/>
          </p:nvSpPr>
          <p:spPr>
            <a:xfrm>
              <a:off x="838080" y="2832840"/>
              <a:ext cx="1197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enced Play Ar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" name="Group 120"/>
            <p:cNvGrpSpPr/>
            <p:nvPr/>
          </p:nvGrpSpPr>
          <p:grpSpPr>
            <a:xfrm>
              <a:off x="5417640" y="5369040"/>
              <a:ext cx="547560" cy="205200"/>
              <a:chOff x="5417640" y="5369040"/>
              <a:chExt cx="547560" cy="205200"/>
            </a:xfrm>
          </p:grpSpPr>
          <p:grpSp>
            <p:nvGrpSpPr>
              <p:cNvPr id="384" name="Group 121"/>
              <p:cNvGrpSpPr/>
              <p:nvPr/>
            </p:nvGrpSpPr>
            <p:grpSpPr>
              <a:xfrm>
                <a:off x="5417640" y="5369040"/>
                <a:ext cx="266760" cy="205200"/>
                <a:chOff x="5417640" y="5369040"/>
                <a:chExt cx="266760" cy="205200"/>
              </a:xfrm>
            </p:grpSpPr>
            <p:sp>
              <p:nvSpPr>
                <p:cNvPr id="385" name="door"/>
                <p:cNvSpPr/>
                <p:nvPr/>
              </p:nvSpPr>
              <p:spPr>
                <a:xfrm flipV="1" rot="10800000">
                  <a:off x="5425920" y="5369040"/>
                  <a:ext cx="258480" cy="205200"/>
                </a:xfrm>
                <a:custGeom>
                  <a:avLst/>
                  <a:gdLst>
                    <a:gd name="textAreaLeft" fmla="*/ 30600 w 258480"/>
                    <a:gd name="textAreaRight" fmla="*/ 161280 w 258480"/>
                    <a:gd name="textAreaTop" fmla="*/ 105840 h 205200"/>
                    <a:gd name="textAreaBottom" fmla="*/ 192240 h 20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Line 123"/>
                <p:cNvSpPr/>
                <p:nvPr/>
              </p:nvSpPr>
              <p:spPr>
                <a:xfrm flipH="1">
                  <a:off x="5417640" y="5574240"/>
                  <a:ext cx="2667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124"/>
              <p:cNvGrpSpPr/>
              <p:nvPr/>
            </p:nvGrpSpPr>
            <p:grpSpPr>
              <a:xfrm>
                <a:off x="5698080" y="5369040"/>
                <a:ext cx="267120" cy="205200"/>
                <a:chOff x="5698080" y="5369040"/>
                <a:chExt cx="267120" cy="205200"/>
              </a:xfrm>
            </p:grpSpPr>
            <p:sp>
              <p:nvSpPr>
                <p:cNvPr id="388" name="door"/>
                <p:cNvSpPr/>
                <p:nvPr/>
              </p:nvSpPr>
              <p:spPr>
                <a:xfrm>
                  <a:off x="5698080" y="5369040"/>
                  <a:ext cx="258120" cy="205200"/>
                </a:xfrm>
                <a:custGeom>
                  <a:avLst/>
                  <a:gdLst>
                    <a:gd name="textAreaLeft" fmla="*/ 30240 w 258120"/>
                    <a:gd name="textAreaRight" fmla="*/ 160920 w 258120"/>
                    <a:gd name="textAreaTop" fmla="*/ 105840 h 205200"/>
                    <a:gd name="textAreaBottom" fmla="*/ 192240 h 20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Line 126"/>
                <p:cNvSpPr/>
                <p:nvPr/>
              </p:nvSpPr>
              <p:spPr>
                <a:xfrm>
                  <a:off x="5698800" y="5574240"/>
                  <a:ext cx="2664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0" name="Text Box 127"/>
            <p:cNvSpPr/>
            <p:nvPr/>
          </p:nvSpPr>
          <p:spPr>
            <a:xfrm>
              <a:off x="6051600" y="4957920"/>
              <a:ext cx="119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128"/>
            <p:cNvSpPr/>
            <p:nvPr/>
          </p:nvSpPr>
          <p:spPr>
            <a:xfrm>
              <a:off x="6051600" y="3381480"/>
              <a:ext cx="119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129"/>
            <p:cNvSpPr/>
            <p:nvPr/>
          </p:nvSpPr>
          <p:spPr>
            <a:xfrm>
              <a:off x="6051600" y="2010600"/>
              <a:ext cx="119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130"/>
            <p:cNvSpPr/>
            <p:nvPr/>
          </p:nvSpPr>
          <p:spPr>
            <a:xfrm>
              <a:off x="6121800" y="776520"/>
              <a:ext cx="986400" cy="7369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o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re Lo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131"/>
            <p:cNvSpPr/>
            <p:nvPr/>
          </p:nvSpPr>
          <p:spPr>
            <a:xfrm flipV="1">
              <a:off x="8094240" y="434160"/>
              <a:ext cx="0" cy="685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132"/>
            <p:cNvSpPr/>
            <p:nvPr/>
          </p:nvSpPr>
          <p:spPr>
            <a:xfrm>
              <a:off x="7953480" y="776520"/>
              <a:ext cx="2815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3"/>
            <p:cNvSpPr/>
            <p:nvPr/>
          </p:nvSpPr>
          <p:spPr>
            <a:xfrm>
              <a:off x="7882920" y="228600"/>
              <a:ext cx="42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34"/>
            <p:cNvSpPr/>
            <p:nvPr/>
          </p:nvSpPr>
          <p:spPr>
            <a:xfrm>
              <a:off x="4380480" y="571176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Text Box 135"/>
            <p:cNvSpPr/>
            <p:nvPr/>
          </p:nvSpPr>
          <p:spPr>
            <a:xfrm>
              <a:off x="1140480" y="2420280"/>
              <a:ext cx="67140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36"/>
            <p:cNvSpPr/>
            <p:nvPr/>
          </p:nvSpPr>
          <p:spPr>
            <a:xfrm>
              <a:off x="4521240" y="29700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37"/>
            <p:cNvSpPr/>
            <p:nvPr/>
          </p:nvSpPr>
          <p:spPr>
            <a:xfrm>
              <a:off x="7550640" y="228456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1"/>
          <p:cNvSpPr/>
          <p:nvPr/>
        </p:nvSpPr>
        <p:spPr>
          <a:xfrm>
            <a:off x="698976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DB855970-2626-4D6B-87EF-196735869A6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Picture 2" descr="This is a picture of the front of the same commercial building on fire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3"/>
          <p:cNvSpPr/>
          <p:nvPr/>
        </p:nvSpPr>
        <p:spPr>
          <a:xfrm>
            <a:off x="5125320" y="385596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781920" y="4008600"/>
            <a:ext cx="6714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5"/>
          <p:cNvSpPr/>
          <p:nvPr/>
        </p:nvSpPr>
        <p:spPr>
          <a:xfrm flipV="1">
            <a:off x="1219320" y="3123720"/>
            <a:ext cx="30456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6"/>
          <p:cNvSpPr/>
          <p:nvPr/>
        </p:nvSpPr>
        <p:spPr>
          <a:xfrm flipV="1">
            <a:off x="5257800" y="3352680"/>
            <a:ext cx="3808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1"/>
          <p:cNvSpPr/>
          <p:nvPr/>
        </p:nvSpPr>
        <p:spPr>
          <a:xfrm>
            <a:off x="698976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FE314BC2-ACF4-4268-A37D-ECAE0BA6F1E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2" descr="This is a picture of the side of the same commercial building on fire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3"/>
          <p:cNvSpPr/>
          <p:nvPr/>
        </p:nvSpPr>
        <p:spPr>
          <a:xfrm>
            <a:off x="5353920" y="4313160"/>
            <a:ext cx="6714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1010520" y="400860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5"/>
          <p:cNvSpPr/>
          <p:nvPr/>
        </p:nvSpPr>
        <p:spPr>
          <a:xfrm flipV="1">
            <a:off x="1676520" y="3580920"/>
            <a:ext cx="38088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6"/>
          <p:cNvSpPr/>
          <p:nvPr/>
        </p:nvSpPr>
        <p:spPr>
          <a:xfrm flipV="1">
            <a:off x="5715000" y="365724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1"/>
          <p:cNvSpPr/>
          <p:nvPr/>
        </p:nvSpPr>
        <p:spPr>
          <a:xfrm>
            <a:off x="698976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15B2B442-42C4-4300-8695-AD456F697B3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Picture 2" descr="This is a picture of the back of the same commercial building on fire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3"/>
          <p:cNvSpPr/>
          <p:nvPr/>
        </p:nvSpPr>
        <p:spPr>
          <a:xfrm>
            <a:off x="5582520" y="388620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4"/>
          <p:cNvSpPr/>
          <p:nvPr/>
        </p:nvSpPr>
        <p:spPr>
          <a:xfrm flipH="1" flipV="1">
            <a:off x="5333760" y="3200040"/>
            <a:ext cx="5331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400680" y="179856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6"/>
          <p:cNvSpPr/>
          <p:nvPr/>
        </p:nvSpPr>
        <p:spPr>
          <a:xfrm flipH="1" flipV="1">
            <a:off x="685440" y="2895120"/>
            <a:ext cx="304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551520" y="4164120"/>
            <a:ext cx="1189440" cy="7333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eavy fi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rage 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8:39:44Z</dcterms:created>
  <dc:creator>Phil </dc:creator>
  <dc:description/>
  <dc:language>en-US</dc:language>
  <cp:lastModifiedBy>jvanover</cp:lastModifiedBy>
  <cp:lastPrinted>2013-02-21T15:57:57Z</cp:lastPrinted>
  <dcterms:modified xsi:type="dcterms:W3CDTF">2013-02-21T16:00:54Z</dcterms:modified>
  <cp:revision>21</cp:revision>
  <dc:subject/>
  <dc:title>Art Gallery</dc:title>
</cp:coreProperties>
</file>